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2FD-FFE0-4E68-BA76-95AB3208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838-6666-4C5F-A8CD-09599B00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7D4-AB65-4F99-9535-500ABC5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0A0-B79B-42C6-B359-9BA52C91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44F-AC46-40F8-922A-37875A49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D2F-F3A5-4F41-8369-0D60D0E6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668-88A4-4A03-85E0-B175C2A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B6A-F9FF-468A-9BA1-7187FCF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188-AF58-4AD9-BA29-BF50273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756-FA49-483B-B1D0-965749D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F79-38FB-4454-AEBF-B1DA0FCD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67D-CD00-4471-B04C-59106B8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34C-4E78-4FAB-A774-FD354512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A930-C8CA-4416-A037-1DBF91D92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ecies evolv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evolves in response to its environment &amp; become better adapted to that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are passed on from generation to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ossils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ossils of most living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are often found very deep below the Earth’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stro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uvier) suggested that a series of catastrophes had caused widespread exti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yell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ng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all living things had been created in their present form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on wondered about the extra toes on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naeus &amp; Erasmus Darwin (Charles’ grandfather) proposed that living organisms must have changed over time, but had no explanation for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4-11-13T18:15:38Z</dcterms:modified>
  <cp:revision>29</cp:revision>
  <dc:subject/>
  <dc:title>PowerPoint Presentation</dc:title>
</cp:coreProperties>
</file>